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0FA-B1DF-4E56-94CB-C4E3ED7B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E30-83E5-44C9-90E3-16EA40F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E8C4E-DF7F-4C17-B4C4-F4BCBFD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FE6F8-7AD5-4B1B-A167-61F7EC8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B51C6-6957-4E49-9D9D-713CA5F0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CF102-65B1-4713-BDD3-BEF0F5DE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F7207-638B-4150-BC16-839F8C5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1C102-7B64-43DD-BC20-1153CBA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4DE25-A83D-4D7D-8210-453C0D6D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46F4D-1CCF-476F-A2DA-66E2C26B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75E96-1489-4951-BD21-5E629EFE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71657-5C40-4BDF-A8EF-F652401F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F6D-5778-48CF-B7EA-74715FB5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ECC96-992B-47DD-B8A0-20784CED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E4091-A53C-4C71-89D6-CC08AEF7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B321C-125E-4168-A662-3693CECD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FB1A2-A8F3-4C16-A124-C5187E6A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5B809-82FE-470C-A34C-83221A6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EC30B-5270-4E7B-9307-D174B8B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40BA3-4A17-4AC9-A3E0-D9824AE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2AA83-10B8-442D-9EA6-B4CA488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F0899-35B7-4F59-B9C7-2BBB717F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7430B-A66D-4448-B78A-FF9FDAC6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577-1D1D-4082-A83B-1CD81B2E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246D3-02FF-4AB4-A18A-A07ABC3B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0090-782B-4A3E-8D09-60175B3E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410C0-B670-496F-AE68-3C6A9D50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071AA-1325-4347-A28A-0B542B8D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A6A50-97FD-43AB-8E6A-F9F354FE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6D6FE-135B-4543-A3D1-1EA30730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1BD6F-801A-4FED-99A4-BA3D772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68F1B-E338-4F3B-891D-66633080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BD95-ED86-4E5D-8167-75C4B6A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074A-152B-44C3-A781-4A2F9BB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901F-F674-4090-A839-A0B65960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4DBC2-A599-40B8-A63A-76A500A7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A4736-507D-4ADE-BC93-A72D9529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3818B-D4E8-4651-8279-CCC52E5B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D0E09-EC16-44A5-A09E-1F1F2F94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6B2B-8DBE-4C11-ADB3-FC0C527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B1E23-BDA6-490E-8107-BBEA3494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E176E-F1C8-4CDF-860C-96462D88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72E33-7571-49E0-A44F-A08B421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F6334-090A-4093-B80B-2BC91A3A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F98BC-DFF3-4237-A455-C8F6729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9FC-000D-40AB-A1D1-93B5052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F35B9-C469-43C0-B871-8B2A0B3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F9A64-4EAE-43D1-B239-F79BD40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CBCCF-8B70-412C-A850-BD6848C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5E81-9F67-4FCF-B6E3-9B32A5AE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6F7B2-E067-4937-9BE0-8C3D73C9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48307-BF16-4778-8AD1-A1C8FAB2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D2E7C-982B-42E8-82A5-0DAAD405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A7725-0A0B-4FB1-A3DC-6C3E45B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786B7-BBA4-49AC-9E84-04C28A27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66BCC-6F0A-42ED-9DAA-A4794C4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B85-630C-4094-BB01-D87E8534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E6767-B6A3-4513-ACF1-2162B893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A107A-2842-4606-9C09-9BD9858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EB30E-6EE5-4DE4-ACF6-82DE6BF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7944E-9D64-46AE-8523-357EB64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ADA1D-EB4C-4ABB-9FB8-E7486A5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20560-60E6-456B-A227-A931C5BE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989DB-4B93-47CA-9ACF-0AC195D8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8B25C-66F1-47AA-B012-45249F69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329B4-DE19-433C-9564-C8DEC0AB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2E200-FAA7-4839-9838-56B2B6B4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376F-9FF5-453E-BE8A-4BDA96B1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7B595-8599-4EC6-BB63-90AE114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30EDD-9AE4-4032-A2B9-3122185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8F0AD-9FE2-4B24-8C1D-0A1EC517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ECF1B-8D04-406D-AAE9-28D5615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0B404-C087-4025-8722-24EC6F2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CFFA0-F1A6-4797-B0EC-3200E1E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09CD3-EAEB-4874-99A9-1E279A09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94AE7-95A2-4780-8E22-4B111324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54DEC-02F6-4BED-A7E7-1E680416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5FB86-B1BF-48BD-8863-F2AD7A7B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37BE-136D-4D6A-93CA-B1D4BEE8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0E3A2-DD23-4AF6-8BBD-5DEC66E0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1ACB8-ACC0-4A3C-943D-2E4F2B57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69841-76FF-4C5C-A967-C6126BA7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2BC88-531D-4E9F-997D-9FFDAB3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F8636-DA2D-4D74-B92C-BAD2D315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BB0EF-1160-4AA3-9F39-EFDC1D3F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33193-3699-4252-BDA0-24D56407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88E75-073F-48E3-A15C-672882D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021F1-161A-4DCF-9511-55BD64D6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2B2EC-9D74-436E-B7C3-1DAB05C3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7442-A9F7-4729-B5D2-3E45FBFC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A1270-58D9-4F45-BC7F-CE6C6E35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7893F-94E0-43E6-9807-30907C47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17E0F-40AE-407E-98FA-66B251CC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4E0A0-C7F3-413C-8BEC-1B8EA0E7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4AA40-8BFD-4C56-AA0C-74B94CFB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B053D-D687-42EE-BFD0-19BC209A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91150-B33A-4548-A0E2-5F6847D4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054EA-3086-457B-952F-237F996E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CC5B0-2F51-4380-A92C-51F28CBD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D4947-CC76-4899-B78A-CE9E377B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D8FC-19EE-48B2-AC2C-E5350BB8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EBB4A-A017-4F61-AE8A-9D42397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04AD5-82ED-4B7F-B814-4EC93CE9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B3948-5AA6-4A81-B1DC-14F576BA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88CD8F-29B0-4A1A-895E-EB7AEBFE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730F0-A1F0-4584-969C-98B14C54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17CD2-20FD-4A70-B6E6-2991C94F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59A26-3918-4CB8-938B-2EC519D8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E6A4D-B744-438B-8385-F0C983E4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5D5E1-0C56-4478-863F-78C41D8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30555-6D02-493C-89CC-2CF1078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A99-48CB-42CD-8A28-A63A9A7B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F9A6-00E9-43F5-9D79-4B2749F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75FD3-D3BD-4D6E-85B1-B9CA398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A4659-1F5B-4B37-85FF-553DC50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B785B-50F3-4235-B08F-F6D6B10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1BC20-B258-4A9E-A5F1-F48504BF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289CD-D451-4789-9424-1E83F30F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409C4-68ED-4DCB-80E6-EE75BCC6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06C87-95D5-4452-9EC5-0CFA241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D24B8-67D9-40F0-88EF-47E39107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D64C6-C41D-4104-851D-5675C587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FEDE47-2A02-4FC1-8EA5-40941B61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C6CE-03D6-4122-8D85-B1A0FC6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704CD-5606-41EC-BBB4-868F4DB2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D39E0-B2B4-475E-9811-1E9136E2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5D3E7-51DA-4DAD-92B6-3C43AB7D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4460E-7DC2-4E88-9D8B-299CD2B9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4685B-E3B6-4159-9386-BCDF65B4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C3D64-6DDA-427C-B406-85A01261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C3E6A-6CCC-4DC7-A360-F84D3961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A8664-7A0E-4ECD-9F07-863AD005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F6DD1-9773-4586-9C27-328ACACC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4A828-90D1-42BB-9C6B-C183953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F7E6-1DA3-46C8-B343-61A493A4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021CC-0F77-4731-AB67-42D6B24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048D2-1D96-48F6-B238-253D73E0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F69E0-1FAC-48BE-B62B-B5FD84C0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F9951-80EE-4B45-B86A-0358065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C210D-6A68-4667-9665-3CE2D54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C04AB-286F-4A7D-BD12-26FCEA0A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84E4F-8AEB-42CD-AE21-6F504CA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A8A45-116F-4090-9E54-30593401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21D9B-360C-448F-97D1-B1DCA1D4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998BE-9036-4D25-8D61-7AB75C83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DF9A-F2E0-4D02-8C96-4B90A205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6D637-ABCE-4C59-ABFB-CA1D40CD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0363B-91F4-4B9D-A148-50BA7631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3B7FE9-9EE1-4143-8EAA-86944A2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5E8EB-3F41-42D7-A229-38EB890F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AAFBB-3A12-4D90-9763-0257E76E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5BDAF3-0291-4865-830D-B529148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F21F0-687C-42AE-99CC-44245BF9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C3F10-A87A-442D-990C-F2ECB79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6CFD0-7631-4017-B656-AC3EED8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C4F9D-620F-45DD-98CF-5E15A5B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BF30-DCCD-4334-B737-D8736C23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435A0-DBEC-4C22-BA04-24590E0B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74D1C-179D-4E36-A224-81EEDB34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495C4D-33D7-4E8B-87AA-DEB5E2E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DE721B-78E3-4A48-95E4-68EB1827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321419-26E9-4BE9-BD90-A62988B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6B01E-76D2-4F1B-9F42-A487CD20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6949E-075E-43AE-A176-CC455FC9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32680-73D4-48C3-A58B-0F63B12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A5BCC-FF2D-438B-B9D6-379613AE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2025C-4909-4526-9DED-67630653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ED1E-9377-4271-A1BC-7C843364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99C5A-D66D-43F5-83B2-2D4CE66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13555-B932-4AAA-A1BB-CE9C1940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E4EDB3-2610-4F72-B83E-3F430A29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C29A-2C69-40E3-B6CF-BB621D1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AF17-B5B7-4BB3-9BD5-BB006867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B107-23B0-4EBC-951F-CB2497DA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A2C2-EE4A-438C-996C-847542A5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8B0-C52E-4406-8FA0-39A18FE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E795-9E5B-44A1-A90A-A4461437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2439-4C72-4511-BCD2-2BD354CD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E4D1-DCAC-462D-8300-BD017C33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A301-DDF9-48C3-9A53-F053E0A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2C5F-2744-4766-83E9-38EDA4D4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7755-5497-4838-802A-D57F32B1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6FB2-48E1-4B4E-A5D2-F9A404FC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CB1D-D87A-41DE-97E4-C46596BF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35E9-160C-4D9E-B756-06358F01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3D9D-0805-4FD9-8D24-E5E17933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41F-AED4-483A-AF61-3BF1360E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269A-B2D9-4BE6-B78C-ACAF833E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714F-B1C4-4EA2-A4F7-C244358B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EE5F-00EB-40E3-9809-F27CDC54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6940-779C-456C-812E-8CCB424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3DC6-7EE0-45EC-A686-653511F7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8998-9921-4071-A67C-D8C017B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C080-39BD-4E44-8782-74BACE18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EF967-39F7-441A-AB59-EEA4BAB2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8A76-A2F0-4E69-8B57-F07D6E39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3882-1256-472B-9540-0B47FB51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FF1-0488-4B30-9C30-3F8BA116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CC4F-533A-48F8-ABDE-0CF2F034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4367-0AE3-4709-8312-9325A268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4D16-C7C5-445F-B506-DB224C7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A529-0629-4F4C-A239-32BAFEFC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60B4-F6E5-4F2A-A2E8-5C4B50E4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4800-E403-450E-9374-D4D0E08B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306D-63AD-41C4-9CB9-BA0CEA9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9554-5388-497A-B973-64F19C98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B8EA9-F7C6-44B8-B993-651239D8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E699-B3FE-4B55-9715-1C3A55CC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64C-08EB-4BE4-99EF-BF947138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5CCA-0A9A-4697-B751-A31985A5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31034-F9FA-404C-B3BC-FF5A789D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27C3-894A-4B12-95C0-96B576F4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67410-87BA-46BB-8785-E2552CD4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FA748-A58E-4896-8CF5-A4915926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4A4C-AFE7-4D91-A134-9E19B5B5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8003-850D-4786-8432-E0DCAFE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D74D-2FC6-47BA-867C-8664888D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9EFD-1617-49CA-9B02-237822A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6171-099F-4B7F-B6C7-FD6506D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871-5095-4294-9807-760B17F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93269-BB18-4EDC-9DCA-004ECC4E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1BB9-A907-4FDF-8A72-0920E938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D680A-0AEE-4BD3-BD0C-B7E5263F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C2170-6D52-42BF-B7A0-6BCB2743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33BD-D402-4107-809A-44CA4A16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AEFBE-57B2-4094-BB7B-0009772B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6164E-0240-4482-AC99-2F09E908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98376-54F2-4F92-A18C-B43D8ED3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FDC42-FC00-4C0F-B75E-CD838330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04A86-F2AE-4717-AECE-0566C4C5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CEA-2D78-42C8-A1E9-2C1A0028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4C93-27A5-4C71-826E-7BC6179A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5E0E-E459-4FA3-9789-319FE36D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0F195-0D39-442E-B75A-852CF658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184C-2BB7-4EC9-AA90-18326F4D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0CA72-1E92-4E59-A33C-FBB416A4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52FC1-EC49-47B8-AAE2-9A170093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D3BAE-455A-4E4F-B885-36F0298E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81CB6-AF95-42EC-AF57-99986D21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4DBE-5C2C-4F94-BACC-1A5D1824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56BA-3E7D-4813-864C-223BBA0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6E5-3CDB-47DB-A3C8-57843B1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33A7-34A6-414C-B23F-BD0C170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4EB8-8D16-4838-A8B6-C134B47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3E360-90E3-4512-BCB6-DCA4BA25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49325-0F4F-45D4-A060-FB0D1E8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C3AD0-F896-4AC6-AF9F-BA21C182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A774E-3041-4080-8E7E-7DF4DCD7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68DC-B76D-4539-837D-8A0344B4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B6436-B490-4D4A-9CD1-5F4BD070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16706-857B-4A8F-82D4-88049B5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B853D-9B91-4DB1-A80C-3A51F97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C5EE-0B5A-49A7-9DE0-A350897D0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E31-5952-4CD1-BD1A-6F021804B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490D-7D81-4071-B6B5-D467B8F9CB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6698-2672-4C0A-9566-75D9AFD0FD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ED22-8887-400B-84E4-6182AB104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9B6F-583A-4737-A3C9-C024A0CE4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9D9F-BC08-4F1B-A1CB-D2F6D7C0F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9F76-71AB-49FF-B5D1-01F2CE301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85C8-85E4-4911-925C-C5B47A206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849A-9543-4C15-ABE5-EB24E6232C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134-6800-4B6A-B07B-555F4B022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C459-0928-4352-B0B6-27E810E7A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807-C4C3-4C62-9FF4-7C4D943260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F37D-582B-417E-A3C5-E2DAC3C31D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ED7D-A521-4AE7-8588-07B9A4206C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8FAA-1C21-457E-BEB3-C72717328D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05A2-1641-463D-8EC3-2D2BCAADB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AF5F-9DC4-4624-BD20-548BE64AB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FA33-7351-4DFB-8D6B-3536CE18B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807-EC5F-4F43-A90C-A00C74B97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5312-5224-42B7-A34A-2C10835EDE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3B0D-20A7-4A09-8EAB-A0C50CC4FC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5F55-4321-4E9E-9666-558DBBBF4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A0C-FD40-4F23-B5B6-A72527618D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29F-7A00-4E2E-B558-B45BAABBEC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8421-23BD-44D0-ADDE-E60EAE76A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7F20-BC02-49DD-AF07-36A122EE3F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ADF-4307-43AD-A4C0-10AA29AF7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3C38-A01C-4449-BB24-165BB450F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08A-D06F-432C-956A-9EE4159F5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7C91-3177-4624-8F6C-3D34F2398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CCA3-318C-4DC5-909C-024C4FA0D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7A3C-2DD9-42D3-95B8-7128E8926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9F70-BD7D-447A-B547-210F13134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F60-0D4F-421E-B350-FEDFCAFC5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71AD-F5BE-48DE-AA3F-05E13EED7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C36D-AB0E-45CE-B945-3F894C6B2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E48A-A30D-49CD-BF98-393820DA6F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9DE0-F3CF-47C8-94F5-C9C4D3E1B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CF7-B71A-4C1D-B975-301052D98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057800" cy="942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5819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414360" y="1042920"/>
            <a:ext cx="8313840" cy="477216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2" descr=""/>
          <p:cNvPicPr/>
          <p:nvPr/>
        </p:nvPicPr>
        <p:blipFill>
          <a:blip r:embed="rId2"/>
          <a:stretch/>
        </p:blipFill>
        <p:spPr>
          <a:xfrm>
            <a:off x="6875640" y="990720"/>
            <a:ext cx="1800000" cy="42840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3" descr=""/>
          <p:cNvPicPr/>
          <p:nvPr/>
        </p:nvPicPr>
        <p:blipFill>
          <a:blip r:embed="rId3"/>
          <a:stretch/>
        </p:blipFill>
        <p:spPr>
          <a:xfrm>
            <a:off x="1403280" y="1465200"/>
            <a:ext cx="4897440" cy="42876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4" descr=""/>
          <p:cNvPicPr/>
          <p:nvPr/>
        </p:nvPicPr>
        <p:blipFill>
          <a:blip r:embed="rId4"/>
          <a:stretch/>
        </p:blipFill>
        <p:spPr>
          <a:xfrm>
            <a:off x="7740720" y="1989000"/>
            <a:ext cx="1008000" cy="3700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6" descr=""/>
          <p:cNvPicPr/>
          <p:nvPr/>
        </p:nvPicPr>
        <p:blipFill>
          <a:blip r:embed="rId5"/>
          <a:stretch/>
        </p:blipFill>
        <p:spPr>
          <a:xfrm>
            <a:off x="1042920" y="2460600"/>
            <a:ext cx="1008000" cy="37008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7" descr=""/>
          <p:cNvPicPr/>
          <p:nvPr/>
        </p:nvPicPr>
        <p:blipFill>
          <a:blip r:embed="rId6"/>
          <a:stretch/>
        </p:blipFill>
        <p:spPr>
          <a:xfrm>
            <a:off x="1403280" y="2898720"/>
            <a:ext cx="6697800" cy="42876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8" descr=""/>
          <p:cNvPicPr/>
          <p:nvPr/>
        </p:nvPicPr>
        <p:blipFill>
          <a:blip r:embed="rId7"/>
          <a:stretch/>
        </p:blipFill>
        <p:spPr>
          <a:xfrm>
            <a:off x="6012000" y="3429000"/>
            <a:ext cx="2663640" cy="36972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9" descr=""/>
          <p:cNvPicPr/>
          <p:nvPr/>
        </p:nvPicPr>
        <p:blipFill>
          <a:blip r:embed="rId8"/>
          <a:stretch/>
        </p:blipFill>
        <p:spPr>
          <a:xfrm>
            <a:off x="539640" y="3860640"/>
            <a:ext cx="6696360" cy="42876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10" descr=""/>
          <p:cNvPicPr/>
          <p:nvPr/>
        </p:nvPicPr>
        <p:blipFill>
          <a:blip r:embed="rId9"/>
          <a:stretch/>
        </p:blipFill>
        <p:spPr>
          <a:xfrm>
            <a:off x="6012000" y="4365720"/>
            <a:ext cx="2232000" cy="36972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11" descr=""/>
          <p:cNvPicPr/>
          <p:nvPr/>
        </p:nvPicPr>
        <p:blipFill>
          <a:blip r:embed="rId10"/>
          <a:stretch/>
        </p:blipFill>
        <p:spPr>
          <a:xfrm>
            <a:off x="4859280" y="4849920"/>
            <a:ext cx="3816360" cy="36972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12" descr=""/>
          <p:cNvPicPr/>
          <p:nvPr/>
        </p:nvPicPr>
        <p:blipFill>
          <a:blip r:embed="rId11"/>
          <a:stretch/>
        </p:blipFill>
        <p:spPr>
          <a:xfrm>
            <a:off x="1187280" y="5321160"/>
            <a:ext cx="38163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324000" y="979560"/>
            <a:ext cx="84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600120" y="860400"/>
            <a:ext cx="7943760" cy="57247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2" descr=""/>
          <p:cNvPicPr/>
          <p:nvPr/>
        </p:nvPicPr>
        <p:blipFill>
          <a:blip r:embed="rId2"/>
          <a:stretch/>
        </p:blipFill>
        <p:spPr>
          <a:xfrm>
            <a:off x="1476360" y="1380960"/>
            <a:ext cx="647640" cy="3700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3" descr=""/>
          <p:cNvPicPr/>
          <p:nvPr/>
        </p:nvPicPr>
        <p:blipFill>
          <a:blip r:embed="rId3"/>
          <a:stretch/>
        </p:blipFill>
        <p:spPr>
          <a:xfrm>
            <a:off x="6156360" y="1854360"/>
            <a:ext cx="1871640" cy="3697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4" descr=""/>
          <p:cNvPicPr/>
          <p:nvPr/>
        </p:nvPicPr>
        <p:blipFill>
          <a:blip r:embed="rId4"/>
          <a:stretch/>
        </p:blipFill>
        <p:spPr>
          <a:xfrm>
            <a:off x="2556000" y="3305160"/>
            <a:ext cx="6048360" cy="37008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5" descr=""/>
          <p:cNvPicPr/>
          <p:nvPr/>
        </p:nvPicPr>
        <p:blipFill>
          <a:blip r:embed="rId5"/>
          <a:stretch/>
        </p:blipFill>
        <p:spPr>
          <a:xfrm>
            <a:off x="826920" y="3768840"/>
            <a:ext cx="18734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596880" y="797040"/>
            <a:ext cx="7951680" cy="452412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2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1297080" cy="36972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3" descr=""/>
          <p:cNvPicPr/>
          <p:nvPr/>
        </p:nvPicPr>
        <p:blipFill>
          <a:blip r:embed="rId3"/>
          <a:stretch/>
        </p:blipFill>
        <p:spPr>
          <a:xfrm>
            <a:off x="826920" y="2266920"/>
            <a:ext cx="1297080" cy="37008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4" descr=""/>
          <p:cNvPicPr/>
          <p:nvPr/>
        </p:nvPicPr>
        <p:blipFill>
          <a:blip r:embed="rId4"/>
          <a:stretch/>
        </p:blipFill>
        <p:spPr>
          <a:xfrm>
            <a:off x="6875640" y="3213000"/>
            <a:ext cx="1800000" cy="37008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5" descr=""/>
          <p:cNvPicPr/>
          <p:nvPr/>
        </p:nvPicPr>
        <p:blipFill>
          <a:blip r:embed="rId5"/>
          <a:stretch/>
        </p:blipFill>
        <p:spPr>
          <a:xfrm>
            <a:off x="611280" y="3716280"/>
            <a:ext cx="7848360" cy="37008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6" descr=""/>
          <p:cNvPicPr/>
          <p:nvPr/>
        </p:nvPicPr>
        <p:blipFill>
          <a:blip r:embed="rId6"/>
          <a:stretch/>
        </p:blipFill>
        <p:spPr>
          <a:xfrm>
            <a:off x="611280" y="4211640"/>
            <a:ext cx="7848360" cy="36972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7" descr=""/>
          <p:cNvPicPr/>
          <p:nvPr/>
        </p:nvPicPr>
        <p:blipFill>
          <a:blip r:embed="rId7"/>
          <a:stretch/>
        </p:blipFill>
        <p:spPr>
          <a:xfrm>
            <a:off x="684360" y="4662360"/>
            <a:ext cx="72723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877240" cy="61149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070080" y="1865160"/>
            <a:ext cx="1008360" cy="28764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" descr=""/>
          <p:cNvPicPr/>
          <p:nvPr/>
        </p:nvPicPr>
        <p:blipFill>
          <a:blip r:embed="rId3"/>
          <a:stretch/>
        </p:blipFill>
        <p:spPr>
          <a:xfrm>
            <a:off x="4788000" y="1874880"/>
            <a:ext cx="720720" cy="28728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4" descr=""/>
          <p:cNvPicPr/>
          <p:nvPr/>
        </p:nvPicPr>
        <p:blipFill>
          <a:blip r:embed="rId4"/>
          <a:stretch/>
        </p:blipFill>
        <p:spPr>
          <a:xfrm>
            <a:off x="6156360" y="1865160"/>
            <a:ext cx="1224000" cy="28764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" descr=""/>
          <p:cNvPicPr/>
          <p:nvPr/>
        </p:nvPicPr>
        <p:blipFill>
          <a:blip r:embed="rId5"/>
          <a:stretch/>
        </p:blipFill>
        <p:spPr>
          <a:xfrm>
            <a:off x="2124000" y="2689200"/>
            <a:ext cx="57636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6" descr=""/>
          <p:cNvPicPr/>
          <p:nvPr/>
        </p:nvPicPr>
        <p:blipFill>
          <a:blip r:embed="rId6"/>
          <a:stretch/>
        </p:blipFill>
        <p:spPr>
          <a:xfrm>
            <a:off x="3851280" y="2679840"/>
            <a:ext cx="576360" cy="287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7" descr=""/>
          <p:cNvPicPr/>
          <p:nvPr/>
        </p:nvPicPr>
        <p:blipFill>
          <a:blip r:embed="rId7"/>
          <a:stretch/>
        </p:blipFill>
        <p:spPr>
          <a:xfrm>
            <a:off x="3851280" y="3078000"/>
            <a:ext cx="1225440" cy="2890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8" descr=""/>
          <p:cNvPicPr/>
          <p:nvPr/>
        </p:nvPicPr>
        <p:blipFill>
          <a:blip r:embed="rId8"/>
          <a:stretch/>
        </p:blipFill>
        <p:spPr>
          <a:xfrm>
            <a:off x="8388360" y="306864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9" descr=""/>
          <p:cNvPicPr/>
          <p:nvPr/>
        </p:nvPicPr>
        <p:blipFill>
          <a:blip r:embed="rId9"/>
          <a:stretch/>
        </p:blipFill>
        <p:spPr>
          <a:xfrm>
            <a:off x="755640" y="350028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0" descr=""/>
          <p:cNvPicPr/>
          <p:nvPr/>
        </p:nvPicPr>
        <p:blipFill>
          <a:blip r:embed="rId10"/>
          <a:stretch/>
        </p:blipFill>
        <p:spPr>
          <a:xfrm>
            <a:off x="5076720" y="3490920"/>
            <a:ext cx="935280" cy="28908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1" descr=""/>
          <p:cNvPicPr/>
          <p:nvPr/>
        </p:nvPicPr>
        <p:blipFill>
          <a:blip r:embed="rId11"/>
          <a:stretch/>
        </p:blipFill>
        <p:spPr>
          <a:xfrm>
            <a:off x="1763640" y="3900600"/>
            <a:ext cx="1295640" cy="28872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2" descr=""/>
          <p:cNvPicPr/>
          <p:nvPr/>
        </p:nvPicPr>
        <p:blipFill>
          <a:blip r:embed="rId12"/>
          <a:stretch/>
        </p:blipFill>
        <p:spPr>
          <a:xfrm>
            <a:off x="7380360" y="3900600"/>
            <a:ext cx="936720" cy="28872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3" descr=""/>
          <p:cNvPicPr/>
          <p:nvPr/>
        </p:nvPicPr>
        <p:blipFill>
          <a:blip r:embed="rId13"/>
          <a:stretch/>
        </p:blipFill>
        <p:spPr>
          <a:xfrm>
            <a:off x="1835280" y="5445000"/>
            <a:ext cx="1368360" cy="28764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4" descr=""/>
          <p:cNvPicPr/>
          <p:nvPr/>
        </p:nvPicPr>
        <p:blipFill>
          <a:blip r:embed="rId14"/>
          <a:stretch/>
        </p:blipFill>
        <p:spPr>
          <a:xfrm>
            <a:off x="4643280" y="5445000"/>
            <a:ext cx="1368720" cy="28764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15" descr=""/>
          <p:cNvPicPr/>
          <p:nvPr/>
        </p:nvPicPr>
        <p:blipFill>
          <a:blip r:embed="rId15"/>
          <a:stretch/>
        </p:blipFill>
        <p:spPr>
          <a:xfrm>
            <a:off x="7020000" y="5445000"/>
            <a:ext cx="1368360" cy="28764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6" descr=""/>
          <p:cNvPicPr/>
          <p:nvPr/>
        </p:nvPicPr>
        <p:blipFill>
          <a:blip r:embed="rId16"/>
          <a:stretch/>
        </p:blipFill>
        <p:spPr>
          <a:xfrm>
            <a:off x="1476360" y="6215040"/>
            <a:ext cx="934920" cy="28728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17" descr=""/>
          <p:cNvPicPr/>
          <p:nvPr/>
        </p:nvPicPr>
        <p:blipFill>
          <a:blip r:embed="rId17"/>
          <a:stretch/>
        </p:blipFill>
        <p:spPr>
          <a:xfrm>
            <a:off x="2771640" y="6216480"/>
            <a:ext cx="936720" cy="2890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18" descr=""/>
          <p:cNvPicPr/>
          <p:nvPr/>
        </p:nvPicPr>
        <p:blipFill>
          <a:blip r:embed="rId18"/>
          <a:stretch/>
        </p:blipFill>
        <p:spPr>
          <a:xfrm>
            <a:off x="4788000" y="6215040"/>
            <a:ext cx="9363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266760" y="952560"/>
            <a:ext cx="8610480" cy="55720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505080" cy="28764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3" descr=""/>
          <p:cNvPicPr/>
          <p:nvPr/>
        </p:nvPicPr>
        <p:blipFill>
          <a:blip r:embed="rId3"/>
          <a:stretch/>
        </p:blipFill>
        <p:spPr>
          <a:xfrm>
            <a:off x="2987640" y="1125360"/>
            <a:ext cx="504720" cy="28764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4" descr=""/>
          <p:cNvPicPr/>
          <p:nvPr/>
        </p:nvPicPr>
        <p:blipFill>
          <a:blip r:embed="rId4"/>
          <a:stretch/>
        </p:blipFill>
        <p:spPr>
          <a:xfrm>
            <a:off x="4356000" y="1125360"/>
            <a:ext cx="503280" cy="287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5" descr=""/>
          <p:cNvPicPr/>
          <p:nvPr/>
        </p:nvPicPr>
        <p:blipFill>
          <a:blip r:embed="rId5"/>
          <a:stretch/>
        </p:blipFill>
        <p:spPr>
          <a:xfrm>
            <a:off x="4202280" y="1546200"/>
            <a:ext cx="502920" cy="28908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" descr=""/>
          <p:cNvPicPr/>
          <p:nvPr/>
        </p:nvPicPr>
        <p:blipFill>
          <a:blip r:embed="rId6"/>
          <a:stretch/>
        </p:blipFill>
        <p:spPr>
          <a:xfrm>
            <a:off x="6732720" y="1125360"/>
            <a:ext cx="503280" cy="28764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7" descr=""/>
          <p:cNvPicPr/>
          <p:nvPr/>
        </p:nvPicPr>
        <p:blipFill>
          <a:blip r:embed="rId7"/>
          <a:stretch/>
        </p:blipFill>
        <p:spPr>
          <a:xfrm>
            <a:off x="6659640" y="1536840"/>
            <a:ext cx="504720" cy="28872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8" descr=""/>
          <p:cNvPicPr/>
          <p:nvPr/>
        </p:nvPicPr>
        <p:blipFill>
          <a:blip r:embed="rId8"/>
          <a:stretch/>
        </p:blipFill>
        <p:spPr>
          <a:xfrm>
            <a:off x="1116000" y="2954160"/>
            <a:ext cx="2519280" cy="2890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9" descr=""/>
          <p:cNvPicPr/>
          <p:nvPr/>
        </p:nvPicPr>
        <p:blipFill>
          <a:blip r:embed="rId9"/>
          <a:stretch/>
        </p:blipFill>
        <p:spPr>
          <a:xfrm>
            <a:off x="4067280" y="2965320"/>
            <a:ext cx="2305080" cy="28764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10" descr=""/>
          <p:cNvPicPr/>
          <p:nvPr/>
        </p:nvPicPr>
        <p:blipFill>
          <a:blip r:embed="rId10"/>
          <a:stretch/>
        </p:blipFill>
        <p:spPr>
          <a:xfrm>
            <a:off x="6516720" y="2965320"/>
            <a:ext cx="2158920" cy="28764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11" descr=""/>
          <p:cNvPicPr/>
          <p:nvPr/>
        </p:nvPicPr>
        <p:blipFill>
          <a:blip r:embed="rId11"/>
          <a:stretch/>
        </p:blipFill>
        <p:spPr>
          <a:xfrm>
            <a:off x="6516720" y="3386160"/>
            <a:ext cx="2158920" cy="28908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12" descr=""/>
          <p:cNvPicPr/>
          <p:nvPr/>
        </p:nvPicPr>
        <p:blipFill>
          <a:blip r:embed="rId12"/>
          <a:stretch/>
        </p:blipFill>
        <p:spPr>
          <a:xfrm>
            <a:off x="961920" y="3789360"/>
            <a:ext cx="2952720" cy="28728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13" descr=""/>
          <p:cNvPicPr/>
          <p:nvPr/>
        </p:nvPicPr>
        <p:blipFill>
          <a:blip r:embed="rId13"/>
          <a:stretch/>
        </p:blipFill>
        <p:spPr>
          <a:xfrm>
            <a:off x="971640" y="4208400"/>
            <a:ext cx="2952720" cy="28908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14" descr=""/>
          <p:cNvPicPr/>
          <p:nvPr/>
        </p:nvPicPr>
        <p:blipFill>
          <a:blip r:embed="rId14"/>
          <a:stretch/>
        </p:blipFill>
        <p:spPr>
          <a:xfrm>
            <a:off x="4087800" y="3789360"/>
            <a:ext cx="23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15" descr=""/>
          <p:cNvPicPr/>
          <p:nvPr/>
        </p:nvPicPr>
        <p:blipFill>
          <a:blip r:embed="rId15"/>
          <a:stretch/>
        </p:blipFill>
        <p:spPr>
          <a:xfrm>
            <a:off x="4016520" y="4335480"/>
            <a:ext cx="2355840" cy="28728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16" descr=""/>
          <p:cNvPicPr/>
          <p:nvPr/>
        </p:nvPicPr>
        <p:blipFill>
          <a:blip r:embed="rId16"/>
          <a:stretch/>
        </p:blipFill>
        <p:spPr>
          <a:xfrm>
            <a:off x="3995640" y="4754520"/>
            <a:ext cx="2355840" cy="28908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17" descr=""/>
          <p:cNvPicPr/>
          <p:nvPr/>
        </p:nvPicPr>
        <p:blipFill>
          <a:blip r:embed="rId17"/>
          <a:stretch/>
        </p:blipFill>
        <p:spPr>
          <a:xfrm>
            <a:off x="6588000" y="4199040"/>
            <a:ext cx="2160720" cy="43164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18" descr=""/>
          <p:cNvPicPr/>
          <p:nvPr/>
        </p:nvPicPr>
        <p:blipFill>
          <a:blip r:embed="rId18"/>
          <a:stretch/>
        </p:blipFill>
        <p:spPr>
          <a:xfrm>
            <a:off x="6516720" y="4745160"/>
            <a:ext cx="2135160" cy="28728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19" descr=""/>
          <p:cNvPicPr/>
          <p:nvPr/>
        </p:nvPicPr>
        <p:blipFill>
          <a:blip r:embed="rId19"/>
          <a:stretch/>
        </p:blipFill>
        <p:spPr>
          <a:xfrm>
            <a:off x="2494080" y="5413320"/>
            <a:ext cx="503280" cy="28728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0" descr=""/>
          <p:cNvPicPr/>
          <p:nvPr/>
        </p:nvPicPr>
        <p:blipFill>
          <a:blip r:embed="rId20"/>
          <a:stretch/>
        </p:blipFill>
        <p:spPr>
          <a:xfrm>
            <a:off x="3213000" y="5815080"/>
            <a:ext cx="5050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162000" y="1514520"/>
            <a:ext cx="8820000" cy="38289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2" descr=""/>
          <p:cNvPicPr/>
          <p:nvPr/>
        </p:nvPicPr>
        <p:blipFill>
          <a:blip r:embed="rId2"/>
          <a:stretch/>
        </p:blipFill>
        <p:spPr>
          <a:xfrm>
            <a:off x="3059280" y="2028960"/>
            <a:ext cx="720720" cy="28728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" descr=""/>
          <p:cNvPicPr/>
          <p:nvPr/>
        </p:nvPicPr>
        <p:blipFill>
          <a:blip r:embed="rId3"/>
          <a:stretch/>
        </p:blipFill>
        <p:spPr>
          <a:xfrm>
            <a:off x="2050920" y="2440080"/>
            <a:ext cx="936720" cy="28872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4" descr=""/>
          <p:cNvPicPr/>
          <p:nvPr/>
        </p:nvPicPr>
        <p:blipFill>
          <a:blip r:embed="rId4"/>
          <a:stretch/>
        </p:blipFill>
        <p:spPr>
          <a:xfrm>
            <a:off x="4356000" y="2019240"/>
            <a:ext cx="936720" cy="28728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5" descr=""/>
          <p:cNvPicPr/>
          <p:nvPr/>
        </p:nvPicPr>
        <p:blipFill>
          <a:blip r:embed="rId5"/>
          <a:stretch/>
        </p:blipFill>
        <p:spPr>
          <a:xfrm>
            <a:off x="4211640" y="2833560"/>
            <a:ext cx="936720" cy="2876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" descr=""/>
          <p:cNvPicPr/>
          <p:nvPr/>
        </p:nvPicPr>
        <p:blipFill>
          <a:blip r:embed="rId6"/>
          <a:stretch/>
        </p:blipFill>
        <p:spPr>
          <a:xfrm>
            <a:off x="5508720" y="3243240"/>
            <a:ext cx="934920" cy="28728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7" descr=""/>
          <p:cNvPicPr/>
          <p:nvPr/>
        </p:nvPicPr>
        <p:blipFill>
          <a:blip r:embed="rId7"/>
          <a:stretch/>
        </p:blipFill>
        <p:spPr>
          <a:xfrm>
            <a:off x="7812000" y="1628640"/>
            <a:ext cx="936720" cy="2876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8" descr=""/>
          <p:cNvPicPr/>
          <p:nvPr/>
        </p:nvPicPr>
        <p:blipFill>
          <a:blip r:embed="rId8"/>
          <a:stretch/>
        </p:blipFill>
        <p:spPr>
          <a:xfrm>
            <a:off x="8440560" y="2028960"/>
            <a:ext cx="432000" cy="28728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9" descr=""/>
          <p:cNvPicPr/>
          <p:nvPr/>
        </p:nvPicPr>
        <p:blipFill>
          <a:blip r:embed="rId9"/>
          <a:stretch/>
        </p:blipFill>
        <p:spPr>
          <a:xfrm>
            <a:off x="6640560" y="2440080"/>
            <a:ext cx="431640" cy="28872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10" descr=""/>
          <p:cNvPicPr/>
          <p:nvPr/>
        </p:nvPicPr>
        <p:blipFill>
          <a:blip r:embed="rId10"/>
          <a:stretch/>
        </p:blipFill>
        <p:spPr>
          <a:xfrm>
            <a:off x="7924680" y="2843280"/>
            <a:ext cx="935280" cy="28728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11" descr=""/>
          <p:cNvPicPr/>
          <p:nvPr/>
        </p:nvPicPr>
        <p:blipFill>
          <a:blip r:embed="rId11"/>
          <a:stretch/>
        </p:blipFill>
        <p:spPr>
          <a:xfrm>
            <a:off x="6659640" y="3243240"/>
            <a:ext cx="433440" cy="2872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12" descr=""/>
          <p:cNvPicPr/>
          <p:nvPr/>
        </p:nvPicPr>
        <p:blipFill>
          <a:blip r:embed="rId12"/>
          <a:stretch/>
        </p:blipFill>
        <p:spPr>
          <a:xfrm>
            <a:off x="3059280" y="4548240"/>
            <a:ext cx="936360" cy="28872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13" descr=""/>
          <p:cNvPicPr/>
          <p:nvPr/>
        </p:nvPicPr>
        <p:blipFill>
          <a:blip r:embed="rId13"/>
          <a:stretch/>
        </p:blipFill>
        <p:spPr>
          <a:xfrm>
            <a:off x="7236000" y="4548240"/>
            <a:ext cx="1584000" cy="28872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14" descr=""/>
          <p:cNvPicPr/>
          <p:nvPr/>
        </p:nvPicPr>
        <p:blipFill>
          <a:blip r:embed="rId14"/>
          <a:stretch/>
        </p:blipFill>
        <p:spPr>
          <a:xfrm>
            <a:off x="2771640" y="4951440"/>
            <a:ext cx="9367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2" descr=""/>
          <p:cNvPicPr/>
          <p:nvPr/>
        </p:nvPicPr>
        <p:blipFill>
          <a:blip r:embed="rId1"/>
          <a:stretch/>
        </p:blipFill>
        <p:spPr>
          <a:xfrm>
            <a:off x="320760" y="853920"/>
            <a:ext cx="8504280" cy="593424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2" descr=""/>
          <p:cNvPicPr/>
          <p:nvPr/>
        </p:nvPicPr>
        <p:blipFill>
          <a:blip r:embed="rId2"/>
          <a:stretch/>
        </p:blipFill>
        <p:spPr>
          <a:xfrm>
            <a:off x="8028000" y="2784600"/>
            <a:ext cx="431640" cy="4284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3" descr=""/>
          <p:cNvPicPr/>
          <p:nvPr/>
        </p:nvPicPr>
        <p:blipFill>
          <a:blip r:embed="rId3"/>
          <a:stretch/>
        </p:blipFill>
        <p:spPr>
          <a:xfrm>
            <a:off x="8018640" y="482112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244440" y="914400"/>
            <a:ext cx="8656560" cy="579132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2" descr=""/>
          <p:cNvPicPr/>
          <p:nvPr/>
        </p:nvPicPr>
        <p:blipFill>
          <a:blip r:embed="rId2"/>
          <a:stretch/>
        </p:blipFill>
        <p:spPr>
          <a:xfrm>
            <a:off x="8028000" y="3141720"/>
            <a:ext cx="431640" cy="4284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3" descr=""/>
          <p:cNvPicPr/>
          <p:nvPr/>
        </p:nvPicPr>
        <p:blipFill>
          <a:blip r:embed="rId3"/>
          <a:stretch/>
        </p:blipFill>
        <p:spPr>
          <a:xfrm>
            <a:off x="8028000" y="624996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2" descr=""/>
          <p:cNvPicPr/>
          <p:nvPr/>
        </p:nvPicPr>
        <p:blipFill>
          <a:blip r:embed="rId1"/>
          <a:stretch/>
        </p:blipFill>
        <p:spPr>
          <a:xfrm>
            <a:off x="257040" y="917640"/>
            <a:ext cx="8629920" cy="57420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2" descr=""/>
          <p:cNvPicPr/>
          <p:nvPr/>
        </p:nvPicPr>
        <p:blipFill>
          <a:blip r:embed="rId2"/>
          <a:stretch/>
        </p:blipFill>
        <p:spPr>
          <a:xfrm>
            <a:off x="8028000" y="306864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3" descr=""/>
          <p:cNvPicPr/>
          <p:nvPr/>
        </p:nvPicPr>
        <p:blipFill>
          <a:blip r:embed="rId3"/>
          <a:stretch/>
        </p:blipFill>
        <p:spPr>
          <a:xfrm>
            <a:off x="8101080" y="6240600"/>
            <a:ext cx="4316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285840" y="860400"/>
            <a:ext cx="8572320" cy="572472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" descr=""/>
          <p:cNvPicPr/>
          <p:nvPr/>
        </p:nvPicPr>
        <p:blipFill>
          <a:blip r:embed="rId2"/>
          <a:stretch/>
        </p:blipFill>
        <p:spPr>
          <a:xfrm>
            <a:off x="6300720" y="2882880"/>
            <a:ext cx="432000" cy="42876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3" descr=""/>
          <p:cNvPicPr/>
          <p:nvPr/>
        </p:nvPicPr>
        <p:blipFill>
          <a:blip r:embed="rId3"/>
          <a:stretch/>
        </p:blipFill>
        <p:spPr>
          <a:xfrm>
            <a:off x="5435640" y="4489560"/>
            <a:ext cx="3384360" cy="42840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4" descr=""/>
          <p:cNvPicPr/>
          <p:nvPr/>
        </p:nvPicPr>
        <p:blipFill>
          <a:blip r:embed="rId4"/>
          <a:stretch/>
        </p:blipFill>
        <p:spPr>
          <a:xfrm>
            <a:off x="684360" y="5025960"/>
            <a:ext cx="3382920" cy="42876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5" descr=""/>
          <p:cNvPicPr/>
          <p:nvPr/>
        </p:nvPicPr>
        <p:blipFill>
          <a:blip r:embed="rId5"/>
          <a:stretch/>
        </p:blipFill>
        <p:spPr>
          <a:xfrm>
            <a:off x="5435640" y="6095880"/>
            <a:ext cx="3384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182520" y="912960"/>
            <a:ext cx="8504280" cy="147636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2" descr=""/>
          <p:cNvPicPr/>
          <p:nvPr/>
        </p:nvPicPr>
        <p:blipFill>
          <a:blip r:embed="rId2"/>
          <a:stretch/>
        </p:blipFill>
        <p:spPr>
          <a:xfrm>
            <a:off x="911160" y="2562120"/>
            <a:ext cx="8001000" cy="394200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3" descr=""/>
          <p:cNvPicPr/>
          <p:nvPr/>
        </p:nvPicPr>
        <p:blipFill>
          <a:blip r:embed="rId3"/>
          <a:stretch/>
        </p:blipFill>
        <p:spPr>
          <a:xfrm>
            <a:off x="1270080" y="922320"/>
            <a:ext cx="3887640" cy="428760"/>
          </a:xfrm>
          <a:prstGeom prst="rect">
            <a:avLst/>
          </a:prstGeom>
          <a:ln w="0">
            <a:noFill/>
          </a:ln>
        </p:spPr>
      </p:pic>
      <p:pic>
        <p:nvPicPr>
          <p:cNvPr id="1093" name="图片 4" descr=""/>
          <p:cNvPicPr/>
          <p:nvPr/>
        </p:nvPicPr>
        <p:blipFill>
          <a:blip r:embed="rId4"/>
          <a:stretch/>
        </p:blipFill>
        <p:spPr>
          <a:xfrm>
            <a:off x="7164360" y="6014880"/>
            <a:ext cx="15112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1:14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